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BB9-8BB2-43C4-B0BE-FE5D9F7B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691-9A96-4E6D-8F6C-96627F05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BA5-2FA2-40C4-A8F3-443E40AB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DEA-01A6-4A4A-8290-3CF18735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5AB-8FF4-47EF-90FB-55BA11A4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930-F6FA-47B4-BCE5-36C57616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7E3-7514-44D5-9E60-0F6F414A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B19-C55C-49D4-9EB6-ADB3B190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DA1-4B87-4D88-977C-683846F7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EF9-BBE3-45AA-952C-D5FE0FA4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5D9-D431-4DD5-B3D9-2A285726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66D-853E-44F8-BCF3-1A91DEAC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6363-5288-45C2-BF2E-17AF844EAA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вторение и обобщение материал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тем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Односоставные  предложения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2700360" y="3768840"/>
            <a:ext cx="4103640" cy="19429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"/>
          <p:cNvSpPr/>
          <p:nvPr/>
        </p:nvSpPr>
        <p:spPr>
          <a:xfrm>
            <a:off x="6227640" y="5373720"/>
            <a:ext cx="2880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 МБОУ «СШ №17 им.Героя РФ А.Б.Буханова» г.Смоленск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удыменко Людмила Дмитриевна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1785960" y="1695600"/>
            <a:ext cx="2944800" cy="13032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1" descr=""/>
          <p:cNvPicPr/>
          <p:nvPr/>
        </p:nvPicPr>
        <p:blipFill>
          <a:blip r:embed="rId3"/>
          <a:stretch/>
        </p:blipFill>
        <p:spPr>
          <a:xfrm>
            <a:off x="3035160" y="2309760"/>
            <a:ext cx="328644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2" descr=""/>
          <p:cNvPicPr/>
          <p:nvPr/>
        </p:nvPicPr>
        <p:blipFill>
          <a:blip r:embed="rId4"/>
          <a:stretch/>
        </p:blipFill>
        <p:spPr>
          <a:xfrm>
            <a:off x="5535720" y="2828880"/>
            <a:ext cx="22176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2089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чный огонь. Александровский са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мятник тысячам жизней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чный огонь - это память солда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стно служивших Отчизн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Юрий Шмид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 войны возможно ли вернуть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такой душой, как и был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быть! В забвенье обернуть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же не выйдет  никогда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ександр Защитн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ди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уда сердца стучатся, 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нит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н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воевано счастье, 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жалуйста, помнит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берт Рождественский  «Реквием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7640" y="403200"/>
            <a:ext cx="6480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тическая разминк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гра «Да» - «Н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1908000" y="907920"/>
            <a:ext cx="712800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Односоставное предложение состоит из одного главного члена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Все односоставные предложения- глагольные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3.Главный член назывного предложения-существительное в именительном падеже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4.Сказуемое в неопределенно- личных предложениях выражено глаголом в повелительном наклонени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Нужно помнить и уважать наше прошло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это  безличное  предложение, где  нет и не может быть подлежащего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Парад Победы в сорок пятом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это назывное предложение  с главным членом подлежащим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7.В день Великой Победы  склоняем головы перед светлой памятью не вернувшихся с войн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В определенно-личных предложениях сказуемое выражено глаголом 1 и 2 лица единственного или множественного числа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8.Назывные предложения нужны для описания действий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Скольких с поля выносил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взрывов будто не боясь?(Сказуемое в неопределенно - личных предложениях выражено глаголом мн.числа прошедшего времени или глаголом 3 лица настоящего или будущего времени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10.Сам погибай, а товарища выруча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!(Обобщенно-личные предложения характерны для пословиц, поговорок, афоризмов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328680"/>
            <a:ext cx="3240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социограмм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47280" y="1773000"/>
            <a:ext cx="374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й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боль, страх, смерть, бой, стрельба, кровь, победа, отвага, крик, враг, память, солдаты, гибель, ранение, человек, взрыв, граната, родная зем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5292720" y="909720"/>
            <a:ext cx="360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лковый словарь живого великорусского языка В. И. Дал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уква 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35280" y="1773360"/>
            <a:ext cx="352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АМЯТЬ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ж. способность помнить, не забывать прошлого; свойство души хранить, помнить сознанье о былом. Память, относительно прошлого, то же, что заключенье, догадка и воображенье, относительно будущего. Ясновидение будущего противоположно памяти былого. Память внешняя, безотчетное знание наизусть затверженного; память слов, цифр, имен и событий; память внутренняя, разумное пониманье научной связи узнанного, усвоение себе навсегда духовных и нравственных ист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4349" t="0" r="4616" b="0"/>
          <a:stretch/>
        </p:blipFill>
        <p:spPr>
          <a:xfrm>
            <a:off x="5508720" y="198900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"/>
          <p:cNvPicPr/>
          <p:nvPr/>
        </p:nvPicPr>
        <p:blipFill>
          <a:blip r:embed="rId1"/>
          <a:srcRect l="0" t="0" r="0" b="6213"/>
          <a:stretch/>
        </p:blipFill>
        <p:spPr>
          <a:xfrm>
            <a:off x="2103480" y="765000"/>
            <a:ext cx="67896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95280" y="272880"/>
            <a:ext cx="4691160" cy="62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чером можно пройтись по осеннему  городу. Сумрачно. Издали приметишь в центре парка свет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чный Огонь!  Сюда приходят почтить память павших. Подойдёшь поближе, встанешь у мраморной плиты… Горько, тоскливо становится  на душе. И вот голоса…Люди… Идут к Вечному Огню,  в руках-цветы. Стоишь, затаив дыхание,  и с благодарностью смотришь на тех, кто помнит. Помнит и гордитс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0" t="0" r="4177" b="1915"/>
          <a:stretch/>
        </p:blipFill>
        <p:spPr>
          <a:xfrm>
            <a:off x="347760" y="404640"/>
            <a:ext cx="36478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907640" y="1773360"/>
            <a:ext cx="700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шите поздравление для ветерана, используя разные по структуре  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Картинка, гифка, анимация - Книга и перо"/>
          <p:cNvPicPr/>
          <p:nvPr/>
        </p:nvPicPr>
        <p:blipFill>
          <a:blip r:embed="rId1"/>
          <a:stretch/>
        </p:blipFill>
        <p:spPr>
          <a:xfrm>
            <a:off x="6950160" y="5230800"/>
            <a:ext cx="23032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Олег</cp:lastModifiedBy>
  <dcterms:modified xsi:type="dcterms:W3CDTF">2022-04-16T17:19:51Z</dcterms:modified>
  <cp:revision>42</cp:revision>
  <dc:subject/>
  <dc:title>Слайд 1</dc:title>
</cp:coreProperties>
</file>